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81A-F761-4229-B12B-CA6A27FB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D42-D0E2-4CDC-8CB2-391791C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B34-3FDC-48A3-8929-6960387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3CA-EA02-4569-BC59-A73C0170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D74-E438-48AF-B577-27E1BDBB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EA3-1AB3-45A1-B81E-380DF55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B52-2949-4599-BB5E-6F76C44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AA1-EA95-4F4B-9D2C-342A5DE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A96-A1D3-4E08-A986-AE37144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44E-FBC9-4D04-BBEE-C5DC938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7E4-FACC-4357-86D4-CDEBBFE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B49-21BE-45C0-BB0A-531C510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DC0B-6861-45A9-AFE2-56DCF999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things that happen in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984240" cy="185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395600" cy="504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580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is situation arisen because of a nightmare or a night t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333360"/>
            <a:ext cx="43923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sleepwalking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 somnambulism, involves walking around and even performing simple tasks while a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ost common in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y occur in adults particularly at times of high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nerally last 5 - 15 minutes, but can go up t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ually occurs in NREM 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ep sleep so often there is little coordination, can bump into things, and incoheren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nerally will not be remembered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is not dangerous to wake a sleep walking although it may be difficult to do so as they are in deep sleep, also they may experience some disorientation waking and finding they are not in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94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4067280" cy="568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24360" y="1413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it stop sleepwal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368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92720" y="981000"/>
            <a:ext cx="3600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bout sleep talking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or somniloquism, involves verbalisation while a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most often in NREM but may occur in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usually the sleep talker cannot engage in a coherent conversation as they are preoccupied with their own thoughts and usually in deep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quite a common occurrenc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496080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41300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herent sleep t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890640"/>
            <a:ext cx="6409080" cy="480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0920" y="6021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herent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924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6480" y="260280"/>
            <a:ext cx="52167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125360"/>
            <a:ext cx="74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Phenomena, sometimes called parasomnia, can occur regularly for some people. They are usually of no real concern unless they become a precursor to a sleep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following table indicates the frequency of some parasom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696360" cy="466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5805360"/>
            <a:ext cx="58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work out what each of them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96360" cy="466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544500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 = Snoring, ST = Sleep Talking, SW = Sleep Walking, B =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 = Bruxism which means ‘teeth grindin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7360"/>
            <a:ext cx="720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sleep phenomena we need to have an understanding of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ghtm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ght t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walking or somnambu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talking or somniloqu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95200"/>
            <a:ext cx="4319640" cy="361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4221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ifying dreams are part of human nature: there are very few persons who have never had a nightmare sometime in life. As the picture above shows, the ancient Greeks even thought that during a nightmare one is dominated by an "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u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(a small demon) who sits on the dreamer's chest, leading to a sense of suffocation, breath difficulties, a racing and heavy hear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24800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620640"/>
            <a:ext cx="3600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nightmares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pleasant dreams with frightening, upsetting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an be recalled on awak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ccur in RE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ften dreamer is in a situation of helplessness from which there is no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ne suggestion being that in REM sleep the body is basically stationary (REM par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ny people will wake from nightmares and have vivid memories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ightmares are more common for children than adults, and for females than 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y be related to personal tra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4033800" cy="352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836640"/>
            <a:ext cx="3672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night terro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udden awakening from sleep in a distress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ttle or no recall from the d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ually occur in Stage 3 or 4 NREM, early in the night rather tha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n awakening person may be screaming, sweating, looking terrified, breathing rapi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ften children who awake in such a state are difficult to comfort because they can’t recall why they are in such a state, are confused about their surroundings, and may actually perceive the person who is trying to comfort them as the cause of the discom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2:06:00Z</dcterms:created>
  <dc:creator>DR</dc:creator>
  <dc:description/>
  <dc:language>en-US</dc:language>
  <cp:lastModifiedBy>DR</cp:lastModifiedBy>
  <dcterms:modified xsi:type="dcterms:W3CDTF">2009-04-17T11:41:35Z</dcterms:modified>
  <cp:revision>6</cp:revision>
  <dc:subject/>
  <dc:title>Sleep Phenomenon</dc:title>
</cp:coreProperties>
</file>